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A46-A525-4E81-B4B3-3E0F7BA2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986-D42A-49F4-B859-F636DD6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DE3-21DC-47A8-8888-F68C3597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E86-2CB3-4850-A05A-EA454AE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619-6A0F-42C1-B4DE-EFA1B90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545-4826-4380-AD8B-B302B27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E49-C52E-4451-B641-452423BF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C43-3768-4C69-9F7E-997CBBC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917-1BE7-4DF3-BB9C-46EADFD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415-BF12-41A0-95F6-824D3D8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E37-1F26-456F-8A7A-3E12E5F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492-EB9F-4101-8D30-4BB0909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9A2-1BE6-4286-A219-82D9E5D8F1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50:21Z</dcterms:created>
  <dc:creator>Education</dc:creator>
  <dc:description/>
  <dc:language>en-US</dc:language>
  <cp:lastModifiedBy>Education</cp:lastModifiedBy>
  <dcterms:modified xsi:type="dcterms:W3CDTF">2011-02-09T12:52:04Z</dcterms:modified>
  <cp:revision>1</cp:revision>
  <dc:subject/>
  <dc:title>Slide 1</dc:title>
</cp:coreProperties>
</file>